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1" spc="-1" strike="noStrike">
                <a:solidFill>
                  <a:srgbClr val="000000"/>
                </a:solidFill>
                <a:latin typeface="Arial"/>
              </a:defRPr>
            </a:pPr>
            <a:r>
              <a:rPr b="0" sz="911" spc="-1" strike="noStrike">
                <a:solidFill>
                  <a:srgbClr val="000000"/>
                </a:solidFill>
                <a:latin typeface="Arial"/>
              </a:rPr>
              <a:t>MATUTINO</a:t>
            </a:r>
          </a:p>
        </c:rich>
      </c:tx>
      <c:layout>
        <c:manualLayout>
          <c:xMode val="edge"/>
          <c:yMode val="edge"/>
          <c:x val="0.464334918448069"/>
          <c:y val="0.0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3"/>
          <c:w val="0.959957335229545"/>
          <c:h val="0.85612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9</c:v>
                </c:pt>
                <c:pt idx="2">
                  <c:v>9</c:v>
                </c:pt>
                <c:pt idx="3">
                  <c:v>0</c:v>
                </c:pt>
                <c:pt idx="4">
                  <c:v>2</c:v>
                </c:pt>
                <c:pt idx="5">
                  <c:v>2</c:v>
                </c:pt>
                <c:pt idx="6">
                  <c:v>0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41538461538462</c:v>
                </c:pt>
                <c:pt idx="1">
                  <c:v>3.36410256410256</c:v>
                </c:pt>
                <c:pt idx="2">
                  <c:v>9.46153846153846</c:v>
                </c:pt>
                <c:pt idx="3">
                  <c:v>8.83076923076923</c:v>
                </c:pt>
                <c:pt idx="4">
                  <c:v>3.99487179487179</c:v>
                </c:pt>
                <c:pt idx="5">
                  <c:v>3.99487179487179</c:v>
                </c:pt>
                <c:pt idx="6">
                  <c:v>1.26153846153846</c:v>
                </c:pt>
                <c:pt idx="7">
                  <c:v>3.99487179487179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630769230769231</c:v>
                </c:pt>
                <c:pt idx="15">
                  <c:v>1.05128205128205</c:v>
                </c:pt>
              </c:numCache>
            </c:numRef>
          </c:val>
        </c:ser>
        <c:gapWidth val="100"/>
        <c:overlap val="0"/>
        <c:axId val="42681362"/>
        <c:axId val="69842107"/>
      </c:barChart>
      <c:catAx>
        <c:axId val="4268136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42107"/>
        <c:crossesAt val="0"/>
        <c:auto val="1"/>
        <c:lblAlgn val="ctr"/>
        <c:lblOffset val="100"/>
        <c:noMultiLvlLbl val="0"/>
      </c:catAx>
      <c:valAx>
        <c:axId val="69842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8136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47064574908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4</c:v>
                </c:pt>
                <c:pt idx="2">
                  <c:v>12</c:v>
                </c:pt>
                <c:pt idx="3">
                  <c:v>1</c:v>
                </c:pt>
                <c:pt idx="4">
                  <c:v>1</c:v>
                </c:pt>
                <c:pt idx="5">
                  <c:v>3</c:v>
                </c:pt>
                <c:pt idx="6">
                  <c:v>3</c:v>
                </c:pt>
                <c:pt idx="7">
                  <c:v>2</c:v>
                </c:pt>
                <c:pt idx="8">
                  <c:v>3</c:v>
                </c:pt>
                <c:pt idx="9">
                  <c:v>7</c:v>
                </c:pt>
                <c:pt idx="10">
                  <c:v>7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45833333333333</c:v>
                </c:pt>
                <c:pt idx="1">
                  <c:v>2.45833333333333</c:v>
                </c:pt>
                <c:pt idx="2">
                  <c:v>9.83333333333333</c:v>
                </c:pt>
                <c:pt idx="3">
                  <c:v>8.60416666666667</c:v>
                </c:pt>
                <c:pt idx="4">
                  <c:v>6.14583333333333</c:v>
                </c:pt>
                <c:pt idx="5">
                  <c:v>6.14583333333333</c:v>
                </c:pt>
                <c:pt idx="6">
                  <c:v>6.14583333333333</c:v>
                </c:pt>
                <c:pt idx="7">
                  <c:v>3.6875</c:v>
                </c:pt>
                <c:pt idx="8">
                  <c:v>2.45833333333333</c:v>
                </c:pt>
                <c:pt idx="9">
                  <c:v>3.38020833333333</c:v>
                </c:pt>
                <c:pt idx="10">
                  <c:v>2.765625</c:v>
                </c:pt>
                <c:pt idx="11">
                  <c:v>2.45833333333333</c:v>
                </c:pt>
                <c:pt idx="12">
                  <c:v>1.22916666666667</c:v>
                </c:pt>
                <c:pt idx="13">
                  <c:v>1.22916666666667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71751575"/>
        <c:axId val="77895692"/>
      </c:barChart>
      <c:catAx>
        <c:axId val="7175157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95692"/>
        <c:crossesAt val="0"/>
        <c:auto val="1"/>
        <c:lblAlgn val="ctr"/>
        <c:lblOffset val="100"/>
        <c:noMultiLvlLbl val="0"/>
      </c:catAx>
      <c:valAx>
        <c:axId val="77895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51575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09150704413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1</c:v>
                </c:pt>
                <c:pt idx="2">
                  <c:v>12</c:v>
                </c:pt>
                <c:pt idx="3">
                  <c:v>2</c:v>
                </c:pt>
                <c:pt idx="4">
                  <c:v>4</c:v>
                </c:pt>
                <c:pt idx="5">
                  <c:v>2</c:v>
                </c:pt>
                <c:pt idx="6">
                  <c:v>0</c:v>
                </c:pt>
                <c:pt idx="7">
                  <c:v>4</c:v>
                </c:pt>
                <c:pt idx="8">
                  <c:v>2</c:v>
                </c:pt>
                <c:pt idx="9">
                  <c:v>6</c:v>
                </c:pt>
                <c:pt idx="10">
                  <c:v>5</c:v>
                </c:pt>
                <c:pt idx="11">
                  <c:v>3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33333333333333</c:v>
                </c:pt>
                <c:pt idx="1">
                  <c:v>2.33333333333333</c:v>
                </c:pt>
                <c:pt idx="2">
                  <c:v>9.33333333333333</c:v>
                </c:pt>
                <c:pt idx="3">
                  <c:v>8.16666666666667</c:v>
                </c:pt>
                <c:pt idx="4">
                  <c:v>5.83333333333333</c:v>
                </c:pt>
                <c:pt idx="5">
                  <c:v>5.83333333333333</c:v>
                </c:pt>
                <c:pt idx="6">
                  <c:v>5.83333333333333</c:v>
                </c:pt>
                <c:pt idx="7">
                  <c:v>3.5</c:v>
                </c:pt>
                <c:pt idx="8">
                  <c:v>2.33333333333333</c:v>
                </c:pt>
                <c:pt idx="9">
                  <c:v>3.20833333333333</c:v>
                </c:pt>
                <c:pt idx="10">
                  <c:v>2.625</c:v>
                </c:pt>
                <c:pt idx="11">
                  <c:v>2.33333333333333</c:v>
                </c:pt>
                <c:pt idx="12">
                  <c:v>1.16666666666667</c:v>
                </c:pt>
                <c:pt idx="13">
                  <c:v>1.16666666666667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27493923"/>
        <c:axId val="5598170"/>
      </c:barChart>
      <c:catAx>
        <c:axId val="2749392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8170"/>
        <c:crossesAt val="0"/>
        <c:auto val="1"/>
        <c:lblAlgn val="ctr"/>
        <c:lblOffset val="100"/>
        <c:noMultiLvlLbl val="0"/>
      </c:catAx>
      <c:valAx>
        <c:axId val="5598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9392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2" spc="-1" strike="noStrike">
                <a:solidFill>
                  <a:srgbClr val="000000"/>
                </a:solidFill>
                <a:latin typeface="Arial"/>
              </a:defRPr>
            </a:pPr>
            <a:r>
              <a:rPr b="1" sz="1492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41135949513355"/>
          <c:y val="0.020263964804692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305425943208"/>
          <c:w val="0.959957335229545"/>
          <c:h val="0.76989734702039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  <c:pt idx="4">
                  <c:v>2</c:v>
                </c:pt>
                <c:pt idx="5">
                  <c:v>0</c:v>
                </c:pt>
                <c:pt idx="6">
                  <c:v>3</c:v>
                </c:pt>
                <c:pt idx="7">
                  <c:v>3</c:v>
                </c:pt>
                <c:pt idx="8">
                  <c:v>4</c:v>
                </c:pt>
                <c:pt idx="9">
                  <c:v>5</c:v>
                </c:pt>
                <c:pt idx="10">
                  <c:v>7</c:v>
                </c:pt>
                <c:pt idx="11">
                  <c:v>0</c:v>
                </c:pt>
                <c:pt idx="12">
                  <c:v>0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79166666666667</c:v>
                </c:pt>
                <c:pt idx="1">
                  <c:v>1.79166666666667</c:v>
                </c:pt>
                <c:pt idx="2">
                  <c:v>7.16666666666667</c:v>
                </c:pt>
                <c:pt idx="3">
                  <c:v>6.27083333333333</c:v>
                </c:pt>
                <c:pt idx="4">
                  <c:v>4.47916666666667</c:v>
                </c:pt>
                <c:pt idx="5">
                  <c:v>4.47916666666667</c:v>
                </c:pt>
                <c:pt idx="6">
                  <c:v>4.47916666666667</c:v>
                </c:pt>
                <c:pt idx="7">
                  <c:v>2.6875</c:v>
                </c:pt>
                <c:pt idx="8">
                  <c:v>1.79166666666667</c:v>
                </c:pt>
                <c:pt idx="9">
                  <c:v>2.46354166666667</c:v>
                </c:pt>
                <c:pt idx="10">
                  <c:v>2.015625</c:v>
                </c:pt>
                <c:pt idx="11">
                  <c:v>1.79166666666667</c:v>
                </c:pt>
                <c:pt idx="12">
                  <c:v>0.895833333333333</c:v>
                </c:pt>
                <c:pt idx="13">
                  <c:v>0.895833333333333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3769637"/>
        <c:axId val="86974774"/>
      </c:barChart>
      <c:catAx>
        <c:axId val="5376963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74774"/>
        <c:crossesAt val="0"/>
        <c:auto val="1"/>
        <c:lblAlgn val="ctr"/>
        <c:lblOffset val="100"/>
        <c:noMultiLvlLbl val="0"/>
      </c:catAx>
      <c:valAx>
        <c:axId val="86974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6963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500" spc="-1" strike="noStrike">
                <a:solidFill>
                  <a:srgbClr val="000000"/>
                </a:solidFill>
                <a:latin typeface="Arial"/>
              </a:defRPr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EEJGL MATUTINO</a:t>
            </a:r>
          </a:p>
        </c:rich>
      </c:tx>
      <c:layout>
        <c:manualLayout>
          <c:xMode val="edge"/>
          <c:yMode val="edge"/>
          <c:x val="0.395979988488954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29645371231"/>
          <c:y val="0.209223847019123"/>
          <c:w val="0.959976977907646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4</c:v>
                </c:pt>
                <c:pt idx="1">
                  <c:v>1</c:v>
                </c:pt>
                <c:pt idx="2">
                  <c:v>7</c:v>
                </c:pt>
                <c:pt idx="3">
                  <c:v>7</c:v>
                </c:pt>
                <c:pt idx="4">
                  <c:v>6</c:v>
                </c:pt>
                <c:pt idx="5">
                  <c:v>3</c:v>
                </c:pt>
                <c:pt idx="6">
                  <c:v>5</c:v>
                </c:pt>
                <c:pt idx="7">
                  <c:v>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70769230769231</c:v>
                </c:pt>
                <c:pt idx="1">
                  <c:v>4.34871794871795</c:v>
                </c:pt>
                <c:pt idx="2">
                  <c:v>12.2307692307692</c:v>
                </c:pt>
                <c:pt idx="3">
                  <c:v>11.4153846153846</c:v>
                </c:pt>
                <c:pt idx="4">
                  <c:v>5.16410256410256</c:v>
                </c:pt>
                <c:pt idx="5">
                  <c:v>5.16410256410256</c:v>
                </c:pt>
                <c:pt idx="6">
                  <c:v>1.63076923076923</c:v>
                </c:pt>
                <c:pt idx="7">
                  <c:v>5.1641025641025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815384615384615</c:v>
                </c:pt>
                <c:pt idx="15">
                  <c:v>1.35897435897436</c:v>
                </c:pt>
              </c:numCache>
            </c:numRef>
          </c:val>
        </c:ser>
        <c:gapWidth val="100"/>
        <c:overlap val="0"/>
        <c:axId val="22841612"/>
        <c:axId val="25174078"/>
      </c:barChart>
      <c:catAx>
        <c:axId val="2284161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74078"/>
        <c:crossesAt val="0"/>
        <c:auto val="1"/>
        <c:lblAlgn val="ctr"/>
        <c:lblOffset val="100"/>
        <c:noMultiLvlLbl val="0"/>
      </c:catAx>
      <c:valAx>
        <c:axId val="25174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4161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EEJGL MATUTINO</a:t>
            </a:r>
          </a:p>
        </c:rich>
      </c:tx>
      <c:layout>
        <c:manualLayout>
          <c:xMode val="edge"/>
          <c:yMode val="edge"/>
          <c:x val="0.396026843251411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12892760322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3</c:v>
                </c:pt>
                <c:pt idx="1">
                  <c:v>9</c:v>
                </c:pt>
                <c:pt idx="2">
                  <c:v>10</c:v>
                </c:pt>
                <c:pt idx="3">
                  <c:v>8</c:v>
                </c:pt>
                <c:pt idx="4">
                  <c:v>4</c:v>
                </c:pt>
                <c:pt idx="5">
                  <c:v>4</c:v>
                </c:pt>
                <c:pt idx="6">
                  <c:v>1</c:v>
                </c:pt>
                <c:pt idx="7">
                  <c:v>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6.46153846153846</c:v>
                </c:pt>
                <c:pt idx="1">
                  <c:v>4.92307692307692</c:v>
                </c:pt>
                <c:pt idx="2">
                  <c:v>13.8461538461538</c:v>
                </c:pt>
                <c:pt idx="3">
                  <c:v>12.9230769230769</c:v>
                </c:pt>
                <c:pt idx="4">
                  <c:v>5.84615384615385</c:v>
                </c:pt>
                <c:pt idx="5">
                  <c:v>5.84615384615385</c:v>
                </c:pt>
                <c:pt idx="6">
                  <c:v>1.84615384615385</c:v>
                </c:pt>
                <c:pt idx="7">
                  <c:v>5.8461538461538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923076923076923</c:v>
                </c:pt>
                <c:pt idx="15">
                  <c:v>1.53846153846154</c:v>
                </c:pt>
              </c:numCache>
            </c:numRef>
          </c:val>
        </c:ser>
        <c:gapWidth val="100"/>
        <c:overlap val="0"/>
        <c:axId val="1889362"/>
        <c:axId val="98456520"/>
      </c:barChart>
      <c:catAx>
        <c:axId val="188936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56520"/>
        <c:crossesAt val="0"/>
        <c:auto val="1"/>
        <c:lblAlgn val="ctr"/>
        <c:lblOffset val="100"/>
        <c:noMultiLvlLbl val="0"/>
      </c:catAx>
      <c:valAx>
        <c:axId val="98456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936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2" spc="-1" strike="noStrike">
                <a:solidFill>
                  <a:srgbClr val="000000"/>
                </a:solidFill>
                <a:latin typeface="Arial"/>
              </a:defRPr>
            </a:pPr>
            <a:r>
              <a:rPr b="1" sz="1492" spc="-1" strike="noStrike">
                <a:solidFill>
                  <a:srgbClr val="000000"/>
                </a:solidFill>
                <a:latin typeface="Arial"/>
              </a:rPr>
              <a:t>EEJGL MATUTINO</a:t>
            </a:r>
          </a:p>
        </c:rich>
      </c:tx>
      <c:layout>
        <c:manualLayout>
          <c:xMode val="edge"/>
          <c:yMode val="edge"/>
          <c:x val="0.396115728189858"/>
          <c:y val="0.020130649246767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305425943208"/>
          <c:w val="0.959957335229545"/>
          <c:h val="0.76989734702039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7</c:v>
                </c:pt>
                <c:pt idx="2">
                  <c:v>14</c:v>
                </c:pt>
                <c:pt idx="3">
                  <c:v>7</c:v>
                </c:pt>
                <c:pt idx="4">
                  <c:v>2</c:v>
                </c:pt>
                <c:pt idx="5">
                  <c:v>1</c:v>
                </c:pt>
                <c:pt idx="6">
                  <c:v>0</c:v>
                </c:pt>
                <c:pt idx="7">
                  <c:v>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5.06153846153846</c:v>
                </c:pt>
                <c:pt idx="1">
                  <c:v>3.85641025641026</c:v>
                </c:pt>
                <c:pt idx="2">
                  <c:v>10.8461538461538</c:v>
                </c:pt>
                <c:pt idx="3">
                  <c:v>10.1230769230769</c:v>
                </c:pt>
                <c:pt idx="4">
                  <c:v>4.57948717948718</c:v>
                </c:pt>
                <c:pt idx="5">
                  <c:v>4.57948717948718</c:v>
                </c:pt>
                <c:pt idx="6">
                  <c:v>1.44615384615385</c:v>
                </c:pt>
                <c:pt idx="7">
                  <c:v>4.57948717948718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.723076923076923</c:v>
                </c:pt>
                <c:pt idx="15">
                  <c:v>1.20512820512821</c:v>
                </c:pt>
              </c:numCache>
            </c:numRef>
          </c:val>
        </c:ser>
        <c:gapWidth val="100"/>
        <c:overlap val="0"/>
        <c:axId val="49863240"/>
        <c:axId val="99858249"/>
      </c:barChart>
      <c:catAx>
        <c:axId val="4986324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58249"/>
        <c:crossesAt val="0"/>
        <c:auto val="1"/>
        <c:lblAlgn val="ctr"/>
        <c:lblOffset val="100"/>
        <c:noMultiLvlLbl val="0"/>
      </c:catAx>
      <c:valAx>
        <c:axId val="99858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6324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1" spc="-1" strike="noStrike">
                <a:solidFill>
                  <a:srgbClr val="000000"/>
                </a:solidFill>
                <a:latin typeface="Arial"/>
              </a:defRPr>
            </a:pPr>
            <a:r>
              <a:rPr b="0" sz="911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55846406826363"/>
          <c:y val="0.0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3"/>
          <c:w val="0.959957335229545"/>
          <c:h val="0.856125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7</c:v>
                </c:pt>
                <c:pt idx="2">
                  <c:v>19</c:v>
                </c:pt>
                <c:pt idx="3">
                  <c:v>2</c:v>
                </c:pt>
                <c:pt idx="4">
                  <c:v>2</c:v>
                </c:pt>
                <c:pt idx="5">
                  <c:v>0</c:v>
                </c:pt>
                <c:pt idx="6">
                  <c:v>0</c:v>
                </c:pt>
                <c:pt idx="7">
                  <c:v>7</c:v>
                </c:pt>
                <c:pt idx="8">
                  <c:v>0</c:v>
                </c:pt>
                <c:pt idx="9">
                  <c:v>2</c:v>
                </c:pt>
                <c:pt idx="10">
                  <c:v>1</c:v>
                </c:pt>
                <c:pt idx="11">
                  <c:v>0</c:v>
                </c:pt>
                <c:pt idx="12">
                  <c:v>1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89795918367347</c:v>
                </c:pt>
                <c:pt idx="1">
                  <c:v>3.87755102040816</c:v>
                </c:pt>
                <c:pt idx="2">
                  <c:v>10.8163265306122</c:v>
                </c:pt>
                <c:pt idx="3">
                  <c:v>10</c:v>
                </c:pt>
                <c:pt idx="4">
                  <c:v>4.89795918367347</c:v>
                </c:pt>
                <c:pt idx="5">
                  <c:v>4.89795918367347</c:v>
                </c:pt>
                <c:pt idx="6">
                  <c:v>2.04081632653061</c:v>
                </c:pt>
                <c:pt idx="7">
                  <c:v>4.48979591836735</c:v>
                </c:pt>
                <c:pt idx="8">
                  <c:v>0.408163265306122</c:v>
                </c:pt>
                <c:pt idx="9">
                  <c:v>0.408163265306122</c:v>
                </c:pt>
                <c:pt idx="10">
                  <c:v>0.612244897959184</c:v>
                </c:pt>
                <c:pt idx="11">
                  <c:v>0.408163265306122</c:v>
                </c:pt>
                <c:pt idx="12">
                  <c:v>0.204081632653061</c:v>
                </c:pt>
                <c:pt idx="13">
                  <c:v>0.204081632653061</c:v>
                </c:pt>
                <c:pt idx="14">
                  <c:v>0.816326530612245</c:v>
                </c:pt>
                <c:pt idx="15">
                  <c:v>1.02040816326531</c:v>
                </c:pt>
              </c:numCache>
            </c:numRef>
          </c:val>
        </c:ser>
        <c:gapWidth val="100"/>
        <c:overlap val="0"/>
        <c:axId val="47778293"/>
        <c:axId val="95674041"/>
      </c:barChart>
      <c:catAx>
        <c:axId val="4777829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74041"/>
        <c:crossesAt val="0"/>
        <c:auto val="1"/>
        <c:lblAlgn val="ctr"/>
        <c:lblOffset val="100"/>
        <c:noMultiLvlLbl val="0"/>
      </c:catAx>
      <c:valAx>
        <c:axId val="95674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7829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5" spc="-1" strike="noStrike">
                <a:solidFill>
                  <a:srgbClr val="000000"/>
                </a:solidFill>
                <a:latin typeface="Arial"/>
              </a:defRPr>
            </a:pPr>
            <a:r>
              <a:rPr b="1" sz="1495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425581085285"/>
          <c:y val="0.020372453443319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223847019123"/>
          <c:w val="0.959957335229545"/>
          <c:h val="0.76990376202974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5</c:v>
                </c:pt>
                <c:pt idx="1">
                  <c:v>7</c:v>
                </c:pt>
                <c:pt idx="2">
                  <c:v>16</c:v>
                </c:pt>
                <c:pt idx="3">
                  <c:v>2</c:v>
                </c:pt>
                <c:pt idx="4">
                  <c:v>2</c:v>
                </c:pt>
                <c:pt idx="5">
                  <c:v>0</c:v>
                </c:pt>
                <c:pt idx="6">
                  <c:v>0</c:v>
                </c:pt>
                <c:pt idx="7">
                  <c:v>8</c:v>
                </c:pt>
                <c:pt idx="8">
                  <c:v>0</c:v>
                </c:pt>
                <c:pt idx="9">
                  <c:v>2</c:v>
                </c:pt>
                <c:pt idx="10">
                  <c:v>1</c:v>
                </c:pt>
                <c:pt idx="11">
                  <c:v>0</c:v>
                </c:pt>
                <c:pt idx="12">
                  <c:v>0</c:v>
                </c:pt>
                <c:pt idx="13">
                  <c:v>1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89795918367347</c:v>
                </c:pt>
                <c:pt idx="1">
                  <c:v>3.87755102040816</c:v>
                </c:pt>
                <c:pt idx="2">
                  <c:v>10.8163265306122</c:v>
                </c:pt>
                <c:pt idx="3">
                  <c:v>10</c:v>
                </c:pt>
                <c:pt idx="4">
                  <c:v>4.89795918367347</c:v>
                </c:pt>
                <c:pt idx="5">
                  <c:v>4.89795918367347</c:v>
                </c:pt>
                <c:pt idx="6">
                  <c:v>2.04081632653061</c:v>
                </c:pt>
                <c:pt idx="7">
                  <c:v>4.48979591836735</c:v>
                </c:pt>
                <c:pt idx="8">
                  <c:v>0.408163265306122</c:v>
                </c:pt>
                <c:pt idx="9">
                  <c:v>0.408163265306122</c:v>
                </c:pt>
                <c:pt idx="10">
                  <c:v>0.612244897959184</c:v>
                </c:pt>
                <c:pt idx="11">
                  <c:v>0.408163265306122</c:v>
                </c:pt>
                <c:pt idx="12">
                  <c:v>0.204081632653061</c:v>
                </c:pt>
                <c:pt idx="13">
                  <c:v>0.204081632653061</c:v>
                </c:pt>
                <c:pt idx="14">
                  <c:v>0.816326530612245</c:v>
                </c:pt>
                <c:pt idx="15">
                  <c:v>1.02040816326531</c:v>
                </c:pt>
              </c:numCache>
            </c:numRef>
          </c:val>
        </c:ser>
        <c:gapWidth val="100"/>
        <c:overlap val="0"/>
        <c:axId val="59276661"/>
        <c:axId val="56999842"/>
      </c:barChart>
      <c:catAx>
        <c:axId val="5927666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99842"/>
        <c:crossesAt val="0"/>
        <c:auto val="1"/>
        <c:lblAlgn val="ctr"/>
        <c:lblOffset val="100"/>
        <c:noMultiLvlLbl val="0"/>
      </c:catAx>
      <c:valAx>
        <c:axId val="56999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76661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4" spc="-1" strike="noStrike">
                <a:solidFill>
                  <a:srgbClr val="000000"/>
                </a:solidFill>
                <a:latin typeface="Arial"/>
              </a:defRPr>
            </a:pPr>
            <a:r>
              <a:rPr b="1" sz="1494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470023554509"/>
          <c:y val="0.020369907523119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197700574856"/>
          <c:w val="0.959912892760322"/>
          <c:h val="0.77005748562859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10</c:v>
                </c:pt>
                <c:pt idx="2">
                  <c:v>8</c:v>
                </c:pt>
                <c:pt idx="3">
                  <c:v>0</c:v>
                </c:pt>
                <c:pt idx="4">
                  <c:v>8</c:v>
                </c:pt>
                <c:pt idx="5">
                  <c:v>0</c:v>
                </c:pt>
                <c:pt idx="6">
                  <c:v>4</c:v>
                </c:pt>
                <c:pt idx="7">
                  <c:v>3</c:v>
                </c:pt>
                <c:pt idx="8">
                  <c:v>0</c:v>
                </c:pt>
                <c:pt idx="9">
                  <c:v>1</c:v>
                </c:pt>
                <c:pt idx="10">
                  <c:v>3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70204081632653</c:v>
                </c:pt>
                <c:pt idx="1">
                  <c:v>3.72244897959184</c:v>
                </c:pt>
                <c:pt idx="2">
                  <c:v>10.3836734693878</c:v>
                </c:pt>
                <c:pt idx="3">
                  <c:v>9.6</c:v>
                </c:pt>
                <c:pt idx="4">
                  <c:v>4.70204081632653</c:v>
                </c:pt>
                <c:pt idx="5">
                  <c:v>4.70204081632653</c:v>
                </c:pt>
                <c:pt idx="6">
                  <c:v>1.95918367346939</c:v>
                </c:pt>
                <c:pt idx="7">
                  <c:v>4.31020408163265</c:v>
                </c:pt>
                <c:pt idx="8">
                  <c:v>0.391836734693878</c:v>
                </c:pt>
                <c:pt idx="9">
                  <c:v>0.391836734693878</c:v>
                </c:pt>
                <c:pt idx="10">
                  <c:v>0.587755102040816</c:v>
                </c:pt>
                <c:pt idx="11">
                  <c:v>0.391836734693878</c:v>
                </c:pt>
                <c:pt idx="12">
                  <c:v>0.195918367346939</c:v>
                </c:pt>
                <c:pt idx="13">
                  <c:v>0.195918367346939</c:v>
                </c:pt>
                <c:pt idx="14">
                  <c:v>0.783673469387755</c:v>
                </c:pt>
                <c:pt idx="15">
                  <c:v>0.979591836734694</c:v>
                </c:pt>
              </c:numCache>
            </c:numRef>
          </c:val>
        </c:ser>
        <c:gapWidth val="100"/>
        <c:overlap val="0"/>
        <c:axId val="73247180"/>
        <c:axId val="11152482"/>
      </c:barChart>
      <c:catAx>
        <c:axId val="7324718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52482"/>
        <c:crossesAt val="0"/>
        <c:auto val="1"/>
        <c:lblAlgn val="ctr"/>
        <c:lblOffset val="100"/>
        <c:noMultiLvlLbl val="0"/>
      </c:catAx>
      <c:valAx>
        <c:axId val="11152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4718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1493" spc="-1" strike="noStrike">
                <a:solidFill>
                  <a:srgbClr val="000000"/>
                </a:solidFill>
                <a:latin typeface="Arial"/>
              </a:defRPr>
            </a:pPr>
            <a:r>
              <a:rPr b="1" sz="1493" spc="-1" strike="noStrike">
                <a:solidFill>
                  <a:srgbClr val="000000"/>
                </a:solidFill>
                <a:latin typeface="Arial"/>
              </a:rPr>
              <a:t>VESPERTINO</a:t>
            </a:r>
          </a:p>
        </c:rich>
      </c:tx>
      <c:layout>
        <c:manualLayout>
          <c:xMode val="edge"/>
          <c:yMode val="edge"/>
          <c:x val="0.424514466023732"/>
          <c:y val="0.020130649246767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209305425943208"/>
          <c:w val="0.959957335229545"/>
          <c:h val="0.76989734702039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8</c:v>
                </c:pt>
                <c:pt idx="1">
                  <c:v>10</c:v>
                </c:pt>
                <c:pt idx="2">
                  <c:v>13</c:v>
                </c:pt>
                <c:pt idx="3">
                  <c:v>4</c:v>
                </c:pt>
                <c:pt idx="4">
                  <c:v>1</c:v>
                </c:pt>
                <c:pt idx="5">
                  <c:v>0</c:v>
                </c:pt>
                <c:pt idx="6">
                  <c:v>1</c:v>
                </c:pt>
                <c:pt idx="7">
                  <c:v>2</c:v>
                </c:pt>
                <c:pt idx="8">
                  <c:v>2</c:v>
                </c:pt>
                <c:pt idx="9">
                  <c:v>3</c:v>
                </c:pt>
                <c:pt idx="10">
                  <c:v>3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99591836734694</c:v>
                </c:pt>
                <c:pt idx="1">
                  <c:v>3.95510204081633</c:v>
                </c:pt>
                <c:pt idx="2">
                  <c:v>11.0326530612245</c:v>
                </c:pt>
                <c:pt idx="3">
                  <c:v>10.2</c:v>
                </c:pt>
                <c:pt idx="4">
                  <c:v>4.99591836734694</c:v>
                </c:pt>
                <c:pt idx="5">
                  <c:v>4.99591836734694</c:v>
                </c:pt>
                <c:pt idx="6">
                  <c:v>2.08163265306122</c:v>
                </c:pt>
                <c:pt idx="7">
                  <c:v>4.57959183673469</c:v>
                </c:pt>
                <c:pt idx="8">
                  <c:v>0.416326530612245</c:v>
                </c:pt>
                <c:pt idx="9">
                  <c:v>0.416326530612245</c:v>
                </c:pt>
                <c:pt idx="10">
                  <c:v>0.624489795918367</c:v>
                </c:pt>
                <c:pt idx="11">
                  <c:v>0.416326530612245</c:v>
                </c:pt>
                <c:pt idx="12">
                  <c:v>0.208163265306122</c:v>
                </c:pt>
                <c:pt idx="13">
                  <c:v>0.208163265306122</c:v>
                </c:pt>
                <c:pt idx="14">
                  <c:v>0.83265306122449</c:v>
                </c:pt>
                <c:pt idx="15">
                  <c:v>1.04081632653061</c:v>
                </c:pt>
              </c:numCache>
            </c:numRef>
          </c:val>
        </c:ser>
        <c:gapWidth val="100"/>
        <c:overlap val="0"/>
        <c:axId val="61240948"/>
        <c:axId val="75168305"/>
      </c:barChart>
      <c:catAx>
        <c:axId val="6124094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68305"/>
        <c:crossesAt val="0"/>
        <c:auto val="1"/>
        <c:lblAlgn val="ctr"/>
        <c:lblOffset val="100"/>
        <c:noMultiLvlLbl val="0"/>
      </c:catAx>
      <c:valAx>
        <c:axId val="75168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4094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1" spc="-1" strike="noStrike">
                <a:solidFill>
                  <a:srgbClr val="000000"/>
                </a:solidFill>
                <a:latin typeface="Arial"/>
              </a:defRPr>
            </a:pPr>
            <a:r>
              <a:rPr b="0" sz="911" spc="-1" strike="noStrike">
                <a:solidFill>
                  <a:srgbClr val="000000"/>
                </a:solidFill>
                <a:latin typeface="Arial"/>
              </a:rPr>
              <a:t>NOTURNO</a:t>
            </a:r>
          </a:p>
        </c:rich>
      </c:tx>
      <c:layout>
        <c:manualLayout>
          <c:xMode val="edge"/>
          <c:yMode val="edge"/>
          <c:x val="0.465490422647882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2984626921635"/>
          <c:w val="0.959957335229545"/>
          <c:h val="0.8563929508811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2</c:v>
                </c:pt>
                <c:pt idx="2">
                  <c:v>11</c:v>
                </c:pt>
                <c:pt idx="3">
                  <c:v>0</c:v>
                </c:pt>
                <c:pt idx="4">
                  <c:v>5</c:v>
                </c:pt>
                <c:pt idx="5">
                  <c:v>3</c:v>
                </c:pt>
                <c:pt idx="6">
                  <c:v>0</c:v>
                </c:pt>
                <c:pt idx="7">
                  <c:v>3</c:v>
                </c:pt>
                <c:pt idx="8">
                  <c:v>2</c:v>
                </c:pt>
                <c:pt idx="9">
                  <c:v>3</c:v>
                </c:pt>
                <c:pt idx="10">
                  <c:v>5</c:v>
                </c:pt>
                <c:pt idx="11">
                  <c:v>2</c:v>
                </c:pt>
                <c:pt idx="12">
                  <c:v>1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.125</c:v>
                </c:pt>
                <c:pt idx="1">
                  <c:v>2.125</c:v>
                </c:pt>
                <c:pt idx="2">
                  <c:v>8.5</c:v>
                </c:pt>
                <c:pt idx="3">
                  <c:v>7.4375</c:v>
                </c:pt>
                <c:pt idx="4">
                  <c:v>5.3125</c:v>
                </c:pt>
                <c:pt idx="5">
                  <c:v>5.3125</c:v>
                </c:pt>
                <c:pt idx="6">
                  <c:v>5.3125</c:v>
                </c:pt>
                <c:pt idx="7">
                  <c:v>3.1875</c:v>
                </c:pt>
                <c:pt idx="8">
                  <c:v>2.125</c:v>
                </c:pt>
                <c:pt idx="9">
                  <c:v>2.921875</c:v>
                </c:pt>
                <c:pt idx="10">
                  <c:v>2.390625</c:v>
                </c:pt>
                <c:pt idx="11">
                  <c:v>2.125</c:v>
                </c:pt>
                <c:pt idx="12">
                  <c:v>1.0625</c:v>
                </c:pt>
                <c:pt idx="13">
                  <c:v>1.0625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9870657"/>
        <c:axId val="28467308"/>
      </c:barChart>
      <c:catAx>
        <c:axId val="5987065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67308"/>
        <c:crossesAt val="0"/>
        <c:auto val="1"/>
        <c:lblAlgn val="ctr"/>
        <c:lblOffset val="100"/>
        <c:noMultiLvlLbl val="0"/>
      </c:catAx>
      <c:valAx>
        <c:axId val="28467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7065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3531-7803-4E8B-BE29-E242A70CE84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7B65-B4F3-4BCB-9918-99BB89A6FBE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1F7-6A25-4413-9274-C44AD9F2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08D-C738-4CA5-BD68-5E9BDD0C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A7A7-FFDA-48B5-A002-BF752492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430-FFBE-4F38-B375-D0E693A5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26F-00BD-4445-8D3A-68D920E5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53A-29FF-4557-A780-44472815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AA2-8375-441E-9EB1-8B6926AB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E8A-E399-499E-BE77-5BEA4E49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FC2-D763-4C12-B38E-B39280A0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5FB-3072-4A5C-9644-D38C1B52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F790-B960-4665-B980-7F327DDD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930-4EDC-4640-B97E-7FE8F35F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560" y="643572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20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920" y="643572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341A-D355-4AA8-BD32-2FEBEE4186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chart" Target="../charts/chart4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chart" Target="../charts/chart5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chart" Target="../charts/chart6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chart" Target="../charts/chart7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chart" Target="../charts/chart8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chart" Target="../charts/chart9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chart" Target="../charts/chart10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chart" Target="../charts/chart11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chart" Target="../charts/chart1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..\cronograma 2&#186; semeste\Cronograma - PNTE.doc" TargetMode="External"/><Relationship Id="rId2" Type="http://schemas.openxmlformats.org/officeDocument/2006/relationships/hyperlink" Target="..\..\Visitas bimestrais\visita bimestral - Luciana\cronograma 2&#186; semeste\Cronograma - PSTE.doc" TargetMode="External"/><Relationship Id="rId3" Type="http://schemas.openxmlformats.org/officeDocument/2006/relationships/hyperlink" Target="Cronograma - completo.doc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ronograma Ledo 06-08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chart" Target="../charts/chart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chart" Target="../charts/chart3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120" y="119664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E JOAQUM G. LEDO IVINHEMA - 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4920" y="450072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Object 8"/>
          <p:cNvGraphicFramePr/>
          <p:nvPr/>
        </p:nvGraphicFramePr>
        <p:xfrm>
          <a:off x="900000" y="4508640"/>
          <a:ext cx="571680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4508640"/>
                    <a:ext cx="571680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324000" y="1844640"/>
          <a:ext cx="7307280" cy="2436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A TICY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ixaDeTexto 5"/>
          <p:cNvSpPr/>
          <p:nvPr/>
        </p:nvSpPr>
        <p:spPr>
          <a:xfrm>
            <a:off x="1571760" y="5357880"/>
            <a:ext cx="507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71508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Object 9"/>
          <p:cNvGraphicFramePr/>
          <p:nvPr/>
        </p:nvGraphicFramePr>
        <p:xfrm>
          <a:off x="1393920" y="4754520"/>
          <a:ext cx="5157720" cy="1308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3920" y="4754520"/>
                    <a:ext cx="515772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0"/>
          <p:cNvGraphicFramePr/>
          <p:nvPr/>
        </p:nvGraphicFramePr>
        <p:xfrm>
          <a:off x="324000" y="1844640"/>
          <a:ext cx="7307280" cy="2598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ixaDeTexto 5"/>
          <p:cNvSpPr/>
          <p:nvPr/>
        </p:nvSpPr>
        <p:spPr>
          <a:xfrm>
            <a:off x="2857680" y="5214960"/>
            <a:ext cx="3571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Object 9"/>
          <p:cNvGraphicFramePr/>
          <p:nvPr/>
        </p:nvGraphicFramePr>
        <p:xfrm>
          <a:off x="395280" y="4724280"/>
          <a:ext cx="6016680" cy="1308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724280"/>
                    <a:ext cx="601668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10"/>
          <p:cNvGraphicFramePr/>
          <p:nvPr/>
        </p:nvGraphicFramePr>
        <p:xfrm>
          <a:off x="179280" y="1700280"/>
          <a:ext cx="7307280" cy="2598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ixaDeTexto 5"/>
          <p:cNvSpPr/>
          <p:nvPr/>
        </p:nvSpPr>
        <p:spPr>
          <a:xfrm>
            <a:off x="2428920" y="5357880"/>
            <a:ext cx="36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715080" y="535788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Object 9"/>
          <p:cNvGraphicFramePr/>
          <p:nvPr/>
        </p:nvGraphicFramePr>
        <p:xfrm>
          <a:off x="1258920" y="4724280"/>
          <a:ext cx="5105520" cy="129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4724280"/>
                    <a:ext cx="510552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0"/>
          <p:cNvGraphicFramePr/>
          <p:nvPr/>
        </p:nvGraphicFramePr>
        <p:xfrm>
          <a:off x="539640" y="1700280"/>
          <a:ext cx="7523280" cy="267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715080" y="535788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Object 8"/>
          <p:cNvGraphicFramePr/>
          <p:nvPr/>
        </p:nvGraphicFramePr>
        <p:xfrm>
          <a:off x="684360" y="4797360"/>
          <a:ext cx="571644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797360"/>
                    <a:ext cx="57164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9"/>
          <p:cNvGraphicFramePr/>
          <p:nvPr/>
        </p:nvGraphicFramePr>
        <p:xfrm>
          <a:off x="250920" y="1484280"/>
          <a:ext cx="809928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85480" y="221436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ESSOR IL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ixaDeTexto 5"/>
          <p:cNvSpPr/>
          <p:nvPr/>
        </p:nvSpPr>
        <p:spPr>
          <a:xfrm>
            <a:off x="2643120" y="52862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Object 9"/>
          <p:cNvGraphicFramePr/>
          <p:nvPr/>
        </p:nvGraphicFramePr>
        <p:xfrm>
          <a:off x="1116000" y="4869000"/>
          <a:ext cx="4889520" cy="1239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4869000"/>
                    <a:ext cx="48895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0"/>
          <p:cNvGraphicFramePr/>
          <p:nvPr/>
        </p:nvGraphicFramePr>
        <p:xfrm>
          <a:off x="539640" y="1619280"/>
          <a:ext cx="809964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ixaDeTexto 5"/>
          <p:cNvSpPr/>
          <p:nvPr/>
        </p:nvSpPr>
        <p:spPr>
          <a:xfrm>
            <a:off x="3357720" y="5357880"/>
            <a:ext cx="300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Object 9"/>
          <p:cNvGraphicFramePr/>
          <p:nvPr/>
        </p:nvGraphicFramePr>
        <p:xfrm>
          <a:off x="539640" y="4797360"/>
          <a:ext cx="5913720" cy="128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4797360"/>
                    <a:ext cx="59137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"/>
          <p:cNvGraphicFramePr/>
          <p:nvPr/>
        </p:nvGraphicFramePr>
        <p:xfrm>
          <a:off x="250920" y="1413000"/>
          <a:ext cx="80992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ixaDeTexto 5"/>
          <p:cNvSpPr/>
          <p:nvPr/>
        </p:nvSpPr>
        <p:spPr>
          <a:xfrm>
            <a:off x="2286000" y="5357880"/>
            <a:ext cx="4286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642924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Object 9"/>
          <p:cNvGraphicFramePr/>
          <p:nvPr/>
        </p:nvGraphicFramePr>
        <p:xfrm>
          <a:off x="971640" y="4869000"/>
          <a:ext cx="5248080" cy="133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4869000"/>
                    <a:ext cx="524808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0"/>
          <p:cNvGraphicFramePr/>
          <p:nvPr/>
        </p:nvGraphicFramePr>
        <p:xfrm>
          <a:off x="250920" y="1557360"/>
          <a:ext cx="80992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429240" y="528624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Object 8"/>
          <p:cNvGraphicFramePr/>
          <p:nvPr/>
        </p:nvGraphicFramePr>
        <p:xfrm>
          <a:off x="611280" y="4670280"/>
          <a:ext cx="5645160" cy="1432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4670280"/>
                    <a:ext cx="564516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9"/>
          <p:cNvGraphicFramePr/>
          <p:nvPr/>
        </p:nvGraphicFramePr>
        <p:xfrm>
          <a:off x="539640" y="1619280"/>
          <a:ext cx="8099640" cy="27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999800"/>
            <a:ext cx="8497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Todas utiliza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Português, Geografia, História,  Ciênci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26,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73,8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Geografia e Literatu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Língua Portuguesa, Ed. Física, História, Artes, Ciências, Física e Biolog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11,6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88,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Notur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Todas Utiliza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Artes,  Língua Portuguesa, Ciências, Química, Física e Biolog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 24,0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 77,7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aixaDeTexto 4"/>
          <p:cNvSpPr/>
          <p:nvPr/>
        </p:nvSpPr>
        <p:spPr>
          <a:xfrm>
            <a:off x="5214960" y="3214800"/>
            <a:ext cx="3571920" cy="580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urno que apresentou menos uso: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0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horas disponibilizará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9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lanejamento junto à coordenação e professores regente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plano deve conter no máximo 2 aulas, mais 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ronograma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 e junh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Rodapé 3"/>
          <p:cNvSpPr/>
          <p:nvPr/>
        </p:nvSpPr>
        <p:spPr>
          <a:xfrm>
            <a:off x="1763640" y="6408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,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ixaDeTexto 4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70563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3"/>
          <p:cNvSpPr/>
          <p:nvPr/>
        </p:nvSpPr>
        <p:spPr>
          <a:xfrm>
            <a:off x="1692360" y="6408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ESSORA SIRL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428760" y="2138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5"/>
          <p:cNvSpPr/>
          <p:nvPr/>
        </p:nvSpPr>
        <p:spPr>
          <a:xfrm>
            <a:off x="7072200" y="5286240"/>
            <a:ext cx="171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11"/>
          <p:cNvSpPr/>
          <p:nvPr/>
        </p:nvSpPr>
        <p:spPr>
          <a:xfrm>
            <a:off x="6429240" y="55720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7572240" y="5857920"/>
            <a:ext cx="12668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11"/>
          <p:cNvGraphicFramePr/>
          <p:nvPr/>
        </p:nvGraphicFramePr>
        <p:xfrm>
          <a:off x="1476360" y="4653000"/>
          <a:ext cx="571644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4653000"/>
                    <a:ext cx="57164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2"/>
          <p:cNvGraphicFramePr/>
          <p:nvPr/>
        </p:nvGraphicFramePr>
        <p:xfrm>
          <a:off x="539640" y="1620720"/>
          <a:ext cx="8099640" cy="28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6715080" y="521496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Object 8"/>
          <p:cNvGraphicFramePr/>
          <p:nvPr/>
        </p:nvGraphicFramePr>
        <p:xfrm>
          <a:off x="324000" y="4651200"/>
          <a:ext cx="6345000" cy="137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651200"/>
                    <a:ext cx="6345000" cy="13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9"/>
          <p:cNvGraphicFramePr/>
          <p:nvPr/>
        </p:nvGraphicFramePr>
        <p:xfrm>
          <a:off x="509760" y="1619280"/>
          <a:ext cx="813096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ixaDeTexto 5"/>
          <p:cNvSpPr/>
          <p:nvPr/>
        </p:nvSpPr>
        <p:spPr>
          <a:xfrm>
            <a:off x="1071720" y="50720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9"/>
          <p:cNvGraphicFramePr/>
          <p:nvPr/>
        </p:nvGraphicFramePr>
        <p:xfrm>
          <a:off x="755640" y="4724280"/>
          <a:ext cx="5716440" cy="144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4724280"/>
                    <a:ext cx="571644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0"/>
          <p:cNvGraphicFramePr/>
          <p:nvPr/>
        </p:nvGraphicFramePr>
        <p:xfrm>
          <a:off x="108000" y="1628640"/>
          <a:ext cx="8099280" cy="28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4:15:31Z</dcterms:created>
  <dc:creator>Luciana Catarino</dc:creator>
  <dc:description/>
  <dc:language>en-US</dc:language>
  <cp:lastModifiedBy>RONILVA</cp:lastModifiedBy>
  <dcterms:modified xsi:type="dcterms:W3CDTF">2009-08-06T18:33:54Z</dcterms:modified>
  <cp:revision>85</cp:revision>
  <dc:subject/>
  <dc:title>EE LUIZ SOARES ANDRADE  NOVA ANDRADINA - MS</dc:title>
</cp:coreProperties>
</file>